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546-79C5-4E49-BBFF-FEE7D340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0D1-A267-47FE-BFA6-95E8537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1A5-EF91-40FC-B630-5D8E1ADA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F93-7537-4A4A-B060-BC8F9358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C825-2486-4FC2-A4E3-E76EECE9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7509-0A31-42C6-BFF1-8667CE9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C171-59CC-4DB7-8B63-AE994BED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A534-6760-42EA-BA1C-AC2C97D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634C-321A-4C3A-B8E7-C9F33B37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A737-EBDD-4BF3-931B-40AE9100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3D93-888C-4CE4-89D1-B80CC0BB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8C4-1D14-4137-8026-42189188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3FC2-C27D-422C-A8DF-E9F8492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49E5-61E0-4032-BC16-C5BC751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EFC2-9657-4FCB-92E7-50766B2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DCB-A9F3-4FCB-BF6D-2127A566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46A6-7AD6-478F-ACA1-C65C6D9E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DEA-4CBD-4086-BC44-CAB491EA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C61-D949-41B2-8584-957DC63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420-ACFE-490C-84E0-B008194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1E5-BEE4-44EE-96DA-3D9B621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55E-2358-4ED9-AE48-D4C5042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DED-E103-4364-B0FF-9EF8613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255-0569-4ACD-AE9A-4422A10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23BC-C5BE-49E6-999D-1E2AB150C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19CD-28FB-4CA2-B06D-718B9F2CE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LESSON 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enguiat Bk BT"/>
              </a:rPr>
              <a:t>AN INTRODUCTION TO THE PAR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aborers in the Viney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1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S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8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riage of King &amp; Wedding Gar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2:1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en Virg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-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heep &amp; The Go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31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Deb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6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ood Samari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:25-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iend at Midn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5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Rich Fo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6-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atchful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35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rren Fi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6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Chief S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7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east For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2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Great Su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6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Unfinished T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28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King Going To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31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Co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odigal 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11-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ishonest Ste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ich Man &amp; Laza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9-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ster &amp; 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7:7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sistent Wid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harisee &amp; Publ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9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9:11-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– Both are comparisons – differ in form not es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very detail in allegory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eaningful (Gal. 4:21-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lanation is contained i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(John 10:1-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iterally a “fig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teach only one truth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may teach several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Isa. 5:1-7; Psa. 80:8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or My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ligion vs the secular – bo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ach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contain fantasy, unreal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natural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tham’s talking tree seeking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ler (Jud. 9:7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maziah sends messengers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hoash (2 Kings 14:8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place the unnatural in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atural so as to teach some desir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u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ver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ffer from Parables even th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oth words are us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erchangeably in the N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st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4:23 – more a proverb tha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times calle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dark saying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6: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ly, proverbs are short – “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utter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part of their meaning and leave the rest to be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inferred 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(Tr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ld Testament said He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Psalm 78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kes truth clear to believers (Matt. 13:10-12; Lk. 8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illustrate the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y spur men to deeper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ought and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They attract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 They are du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 They stimulate i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test the character of the hear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isarm antagonism, hasty judgment &amp; preconceived prejudi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emand an answer, to encourage a verdic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enable the hearer to recognize themsel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produce a sudden awaken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move men’s thoughts from the earthly to the heavenl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quicken the powers to hear proper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leave men with clear options and alternati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void making every detail to be meaningful &amp; 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k first to understand the salient or principl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must not be the primary of first source of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ver interpret the literal from the figur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ook for the obvious, easy truth, and its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scover from the con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ow Christ to explain His own 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arch the context for explanations, hints, or c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wedding (Matt 22:1-14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Many are called, but few chose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oolish &amp; wise virgins (Matt 25:1-13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erefore keep watch, because you do not know the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day or the hou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ost sheep, coin, boy (Luke 15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is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lcomes sinners and eats with the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rsistent Widow (Luke 18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Parable…the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ought always to pray and not faint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harisee &amp; Publican (Luke 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me were…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elf-righteous and looked down on everyone el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pound (Luke 19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people thought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e kingdom of God was going to appear at o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will open my mouth in parables, I will utter hidden things, things from of o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33-34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ith many similar parables Jesus spoke the word to them, as much as they could understand. He did not say anything to them without using a parable.  But when He was alone with His own disciples, He explained everyth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were used before Jesus’ time but never with His success. When we think of parables we think of J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comprise 1/3 of the recorded teachings of Jes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righteous steward (Luke 16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Use wor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alth to gain friend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merciful Servant (Matt (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How many times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hould I forgive my brother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borers in vineyard (Matt. 20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 the last will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be first, and the first will be la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ich Fool (Luke 12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Watch out! Be on your guar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gainst all kinds of greed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parables relate to kingdom it is different from earthly kingd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honest with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diligent in study and pr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first applications to yourself. Let the Lord instruc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WHAT IS A PARAB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OLE – “PARA,” beside or alongside; “BOLLO,” to th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sic Idea: a comparison; an analogy; a figurative say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n earthly story with a heavenly meaning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– Good gener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ut a bit too general – some d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not tell a story – rather saying 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dage (ancient wisd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Physician heal thyself”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Luke 4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B</a:t>
            </a:r>
            <a:r>
              <a:rPr b="1" i="1" lang="en-US" sz="2400" spc="-1" strike="noStrike">
                <a:solidFill>
                  <a:srgbClr val="ffffff"/>
                </a:solidFill>
                <a:latin typeface="BernhardMod BT"/>
              </a:rPr>
              <a:t>lind leading the blind” 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(Matthew 15: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Nothing inside a man can  make him ‘unclean’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going into him. Rather, it is what comes out of a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at makes him ‘unclean.’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Mark 7:15-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use familiar experiences and makes an application by comparison or ana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“User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rows dow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 familiar story and then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lays alongside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esired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HOW ARE PARABLES USED IN SCRIP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Old Testament Parables – proverbs or similitud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Isa. 5:1-7 – God’s parable on Israel being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vineya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 Sam. 12:1-7 – Nathan’s parable to David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the only sheep), 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you are the man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New Testament Parables – Some 45 different moral stories of Jesu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ke records the greater por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records Kingdom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presents very few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ohn presents NO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600200"/>
          <a:ext cx="8686800" cy="51516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of  Brideg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Patches/Old Gar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Wine/Old Winesk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2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8: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Mustard S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18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cked Husband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33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9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Fig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32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8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9-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se &amp; Foolish Buil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24-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:47-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in the market p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16-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1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ea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0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She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2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3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Wise Ste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45-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42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idden Tr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ecious Pea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7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Drag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ousehol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Unmerciful Ser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23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21:11:15Z</dcterms:created>
  <dc:creator>Jerry Cantrell </dc:creator>
  <dc:description/>
  <dc:language>en-US</dc:language>
  <cp:lastModifiedBy>Jerry Cantrell </cp:lastModifiedBy>
  <dcterms:modified xsi:type="dcterms:W3CDTF">2006-02-06T19:47:39Z</dcterms:modified>
  <cp:revision>23</cp:revision>
  <dc:subject/>
  <dc:title>THE PARABLES OF JESUS</dc:title>
</cp:coreProperties>
</file>